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D3B-8F61-404E-9B56-FA52FC44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967-2596-4C3C-9BF9-E8C518BE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459-184E-45E5-9473-3AC5F6F9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355-2E13-4FBC-92E0-0576B386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3A8A-41AC-463C-B35E-DB22E0A8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3C0F-B477-4AE6-8656-2081F42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3AEE-18AB-4A9D-A9C2-9A57442D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342E-613C-45BD-9708-C71E486B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ADB1-1B0A-40E9-8F99-DD6E49C1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E2D9-8C3F-423F-9C8F-DA928D16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747E-0E2C-4654-BA43-11DCB28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35F-DC49-43B7-966B-EE66220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86CF-C55C-4AAE-94AE-92A224A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3C95-DD9D-4CCB-AC7E-6A5D963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AEF2-31F0-41CC-BE33-2D87EC3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EF42-2BCF-443E-939C-447EDEA5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D6B7-4570-410F-A2E5-BE9C1ABF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E68-8488-4F94-8FF9-905B424A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F22-093C-4A90-9BB0-89D55E75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638-B99F-4541-81B7-A498D4E8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97D-197B-4052-9289-AEBD1FDD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731-1CCD-403C-B18F-E505D5B5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928-6619-4BBF-82CD-D1A7BCF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88B-E7C9-4697-A795-A4F6BE7C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A9A8-E719-455B-BDAD-B4FED7A1F2C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B712-6955-4CA2-B4F8-F49F3DFCFC2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755640" y="1484280"/>
            <a:ext cx="7777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EATHER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CaixaDeTexto 2"/>
          <p:cNvSpPr/>
          <p:nvPr/>
        </p:nvSpPr>
        <p:spPr>
          <a:xfrm>
            <a:off x="900000" y="333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acher Eliane Cavalher S. Rossi – elianecavalher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CaixaDeTexto 6"/>
          <p:cNvSpPr/>
          <p:nvPr/>
        </p:nvSpPr>
        <p:spPr>
          <a:xfrm>
            <a:off x="1584360" y="47196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viously, read pg. 159 (English File Book - Part 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w, press F5 to start this presentation, then click to show the next Picture. Try to guess the question and the answers according to the temperature and sky appea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669900"/>
                </a:solidFill>
                <a:latin typeface="Berlin Sans FB Demi"/>
              </a:rPr>
              <a:t>THE END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95280" y="5516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Berlin Sans FB Demi"/>
              </a:rPr>
              <a:t>By </a:t>
            </a:r>
            <a:br>
              <a:rPr sz="2400"/>
            </a:br>
            <a:r>
              <a:rPr b="1" lang="pt-BR" sz="2400" spc="-1" strike="noStrike">
                <a:solidFill>
                  <a:srgbClr val="cc0000"/>
                </a:solidFill>
                <a:latin typeface="Berlin Sans FB Demi"/>
              </a:rPr>
              <a:t>Teacher Eliane Cavalher S. Ro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57480" y="0"/>
            <a:ext cx="736452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Berlin Sans FB Demi"/>
              </a:rPr>
              <a:t>What´s the weather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1280" y="571680"/>
            <a:ext cx="62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Berlin Sans FB Demi"/>
              </a:rPr>
              <a:t>Adjectivos for temper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2" descr=""/>
          <p:cNvPicPr/>
          <p:nvPr/>
        </p:nvPicPr>
        <p:blipFill>
          <a:blip r:embed="rId1"/>
          <a:stretch/>
        </p:blipFill>
        <p:spPr>
          <a:xfrm>
            <a:off x="6372360" y="1214280"/>
            <a:ext cx="2016000" cy="5643720"/>
          </a:xfrm>
          <a:prstGeom prst="rect">
            <a:avLst/>
          </a:prstGeom>
          <a:ln w="0">
            <a:noFill/>
          </a:ln>
        </p:spPr>
      </p:pic>
      <p:cxnSp>
        <p:nvCxnSpPr>
          <p:cNvPr id="217" name="AutoShape 13"/>
          <p:cNvCxnSpPr/>
          <p:nvPr/>
        </p:nvCxnSpPr>
        <p:spPr>
          <a:xfrm>
            <a:off x="0" y="5013000"/>
            <a:ext cx="9144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18" name="Text Box 14"/>
          <p:cNvSpPr/>
          <p:nvPr/>
        </p:nvSpPr>
        <p:spPr>
          <a:xfrm>
            <a:off x="6372360" y="1773360"/>
            <a:ext cx="8427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2786040" y="1500120"/>
            <a:ext cx="37148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BOILING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071880" y="2303640"/>
            <a:ext cx="42148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HOT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000240" y="3071880"/>
            <a:ext cx="37864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WARM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3143160" y="3857760"/>
            <a:ext cx="36435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COOL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000240" y="4660920"/>
            <a:ext cx="39290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COLD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571840" y="5375160"/>
            <a:ext cx="37148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FREEZING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250920" y="60278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Berlin Sans FB Demi"/>
              </a:rPr>
              <a:t>It´s snowy / </a:t>
            </a:r>
            <a:r>
              <a:rPr b="1" lang="pt-BR" sz="4400" spc="-1" strike="noStrike">
                <a:solidFill>
                  <a:srgbClr val="cc0000"/>
                </a:solidFill>
                <a:latin typeface="Berlin Sans FB Demi"/>
              </a:rPr>
              <a:t>snowing</a:t>
            </a:r>
            <a:r>
              <a:rPr b="1" lang="pt-BR" sz="3600" spc="-1" strike="noStrike">
                <a:solidFill>
                  <a:srgbClr val="cc0000"/>
                </a:solidFill>
                <a:latin typeface="Berlin Sans FB Demi"/>
              </a:rPr>
              <a:t> and freez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Imagem 22" descr="http://anamericaninrome.com/wp/wp-content/uploads/2012/02/snow-falls-in-rome-007.jpg"/>
          <p:cNvPicPr/>
          <p:nvPr/>
        </p:nvPicPr>
        <p:blipFill>
          <a:blip r:embed="rId1"/>
          <a:stretch/>
        </p:blipFill>
        <p:spPr>
          <a:xfrm>
            <a:off x="1476360" y="1663560"/>
            <a:ext cx="6259680" cy="4429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5435640" y="1916280"/>
            <a:ext cx="273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1c1c1c"/>
                </a:solidFill>
                <a:latin typeface="Arial"/>
              </a:rPr>
              <a:t>0 º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21640" y="615960"/>
            <a:ext cx="79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RO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7640" y="5745240"/>
            <a:ext cx="6121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Berlin Sans FB Demi"/>
              </a:rPr>
              <a:t>It´s foggy and c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Imagem 1" descr="http://i.huffpost.com/gen/1512819/thumbs/o-LONDON-FOG-900.jpg?6"/>
          <p:cNvPicPr/>
          <p:nvPr/>
        </p:nvPicPr>
        <p:blipFill>
          <a:blip r:embed="rId1"/>
          <a:stretch/>
        </p:blipFill>
        <p:spPr>
          <a:xfrm>
            <a:off x="1332000" y="1413000"/>
            <a:ext cx="6559560" cy="4440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7"/>
          <p:cNvSpPr/>
          <p:nvPr/>
        </p:nvSpPr>
        <p:spPr>
          <a:xfrm>
            <a:off x="5076720" y="1484280"/>
            <a:ext cx="2737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10º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26960" y="33336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LOND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745240"/>
            <a:ext cx="77756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00"/>
                </a:solidFill>
                <a:latin typeface="Berlin Sans FB Demi"/>
              </a:rPr>
              <a:t>It´s raining and w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10" descr="ehcb7xd2vgc0v898tnxlxmsi2"/>
          <p:cNvPicPr/>
          <p:nvPr/>
        </p:nvPicPr>
        <p:blipFill>
          <a:blip r:embed="rId1"/>
          <a:stretch/>
        </p:blipFill>
        <p:spPr>
          <a:xfrm>
            <a:off x="1835280" y="1700280"/>
            <a:ext cx="5905440" cy="3952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1"/>
          <p:cNvSpPr/>
          <p:nvPr/>
        </p:nvSpPr>
        <p:spPr>
          <a:xfrm>
            <a:off x="971640" y="1628640"/>
            <a:ext cx="273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20º 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072080" y="333360"/>
            <a:ext cx="74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RI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5602320"/>
            <a:ext cx="8136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Berlin Sans FB Demi"/>
              </a:rPr>
              <a:t>It´s sunny and boi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Imagem 31" descr="http://www.hotelroomsearch.net/im/2014/10/sydney-australia-1.jpg"/>
          <p:cNvPicPr/>
          <p:nvPr/>
        </p:nvPicPr>
        <p:blipFill>
          <a:blip r:embed="rId1"/>
          <a:stretch/>
        </p:blipFill>
        <p:spPr>
          <a:xfrm>
            <a:off x="1332000" y="1268280"/>
            <a:ext cx="6696000" cy="4461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9"/>
          <p:cNvSpPr/>
          <p:nvPr/>
        </p:nvSpPr>
        <p:spPr>
          <a:xfrm>
            <a:off x="539640" y="1341360"/>
            <a:ext cx="2737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pt-BR" sz="4800" spc="-1" strike="noStrike">
                <a:solidFill>
                  <a:srgbClr val="ff9900"/>
                </a:solidFill>
                <a:latin typeface="Arial"/>
              </a:rPr>
              <a:t>40º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417240" y="333360"/>
            <a:ext cx="82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SIDNE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1640" y="5745240"/>
            <a:ext cx="615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Berlin Sans FB Demi"/>
              </a:rPr>
              <a:t>It´s cloudy and h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Imagem 34" descr="http://community.norton.com/en/system/files/u2333/nycstorm.jpg"/>
          <p:cNvPicPr/>
          <p:nvPr/>
        </p:nvPicPr>
        <p:blipFill>
          <a:blip r:embed="rId1"/>
          <a:stretch/>
        </p:blipFill>
        <p:spPr>
          <a:xfrm>
            <a:off x="684360" y="1076400"/>
            <a:ext cx="7200720" cy="48006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8"/>
          <p:cNvSpPr/>
          <p:nvPr/>
        </p:nvSpPr>
        <p:spPr>
          <a:xfrm>
            <a:off x="5003640" y="1268280"/>
            <a:ext cx="27370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pt-BR" sz="4800" spc="-1" strike="noStrike">
                <a:solidFill>
                  <a:srgbClr val="ff9900"/>
                </a:solidFill>
                <a:latin typeface="Arial"/>
              </a:rPr>
              <a:t>30º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162360" y="333360"/>
            <a:ext cx="90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NEW Y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9"/>
          <p:cNvSpPr/>
          <p:nvPr/>
        </p:nvSpPr>
        <p:spPr>
          <a:xfrm>
            <a:off x="1979640" y="5818320"/>
            <a:ext cx="5256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Berlin Sans FB Demi"/>
              </a:rPr>
              <a:t>It´s windy and c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Imagem 37" descr="http://www.chinadaily.com.cn/english/doc/2006-01/02/xin_191202311134854455626.jpg"/>
          <p:cNvPicPr/>
          <p:nvPr/>
        </p:nvPicPr>
        <p:blipFill>
          <a:blip r:embed="rId1"/>
          <a:stretch/>
        </p:blipFill>
        <p:spPr>
          <a:xfrm>
            <a:off x="1835280" y="1052640"/>
            <a:ext cx="5761080" cy="50385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4"/>
          <p:cNvSpPr/>
          <p:nvPr/>
        </p:nvSpPr>
        <p:spPr>
          <a:xfrm>
            <a:off x="6423120" y="105876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Arial"/>
              </a:rPr>
              <a:t>5º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441000" y="333360"/>
            <a:ext cx="78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PAR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Imagem 22" descr="http://anamericaninrome.com/wp/wp-content/uploads/2012/02/snow-falls-in-rome-007.jpg"/>
          <p:cNvPicPr/>
          <p:nvPr/>
        </p:nvPicPr>
        <p:blipFill>
          <a:blip r:embed="rId1"/>
          <a:stretch/>
        </p:blipFill>
        <p:spPr>
          <a:xfrm>
            <a:off x="6227640" y="3500280"/>
            <a:ext cx="2916360" cy="2495880"/>
          </a:xfrm>
          <a:prstGeom prst="rect">
            <a:avLst/>
          </a:prstGeom>
          <a:ln w="0">
            <a:noFill/>
          </a:ln>
        </p:spPr>
      </p:pic>
      <p:pic>
        <p:nvPicPr>
          <p:cNvPr id="250" name="Imagem 1" descr="http://i.huffpost.com/gen/1512819/thumbs/o-LONDON-FOG-900.jpg?6"/>
          <p:cNvPicPr/>
          <p:nvPr/>
        </p:nvPicPr>
        <p:blipFill>
          <a:blip r:embed="rId2"/>
          <a:stretch/>
        </p:blipFill>
        <p:spPr>
          <a:xfrm>
            <a:off x="0" y="3500280"/>
            <a:ext cx="2952720" cy="2509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ehcb7xd2vgc0v898tnxlxmsi2"/>
          <p:cNvPicPr/>
          <p:nvPr/>
        </p:nvPicPr>
        <p:blipFill>
          <a:blip r:embed="rId3"/>
          <a:stretch/>
        </p:blipFill>
        <p:spPr>
          <a:xfrm>
            <a:off x="6227640" y="692280"/>
            <a:ext cx="2881440" cy="244944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31" descr="http://www.hotelroomsearch.net/im/2014/10/sydney-australia-1.jpg"/>
          <p:cNvPicPr/>
          <p:nvPr/>
        </p:nvPicPr>
        <p:blipFill>
          <a:blip r:embed="rId4"/>
          <a:stretch/>
        </p:blipFill>
        <p:spPr>
          <a:xfrm>
            <a:off x="0" y="765000"/>
            <a:ext cx="3024360" cy="244800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34" descr="http://community.norton.com/en/system/files/u2333/nycstorm.jpg"/>
          <p:cNvPicPr/>
          <p:nvPr/>
        </p:nvPicPr>
        <p:blipFill>
          <a:blip r:embed="rId5"/>
          <a:stretch/>
        </p:blipFill>
        <p:spPr>
          <a:xfrm>
            <a:off x="3132000" y="765000"/>
            <a:ext cx="2952720" cy="2446560"/>
          </a:xfrm>
          <a:prstGeom prst="rect">
            <a:avLst/>
          </a:prstGeom>
          <a:ln w="0">
            <a:noFill/>
          </a:ln>
        </p:spPr>
      </p:pic>
      <p:pic>
        <p:nvPicPr>
          <p:cNvPr id="254" name="Imagem 37" descr="http://www.chinadaily.com.cn/english/doc/2006-01/02/xin_191202311134854455626.jpg"/>
          <p:cNvPicPr/>
          <p:nvPr/>
        </p:nvPicPr>
        <p:blipFill>
          <a:blip r:embed="rId6"/>
          <a:stretch/>
        </p:blipFill>
        <p:spPr>
          <a:xfrm>
            <a:off x="3132000" y="3502080"/>
            <a:ext cx="2952720" cy="244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1"/>
          <p:cNvSpPr/>
          <p:nvPr/>
        </p:nvSpPr>
        <p:spPr>
          <a:xfrm>
            <a:off x="324000" y="-243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40º                             30º                         20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468360" y="5661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10º                            5º                            0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22:07:41Z</dcterms:created>
  <dc:creator>User</dc:creator>
  <dc:description/>
  <dc:language>en-US</dc:language>
  <cp:lastModifiedBy>eliane</cp:lastModifiedBy>
  <dcterms:modified xsi:type="dcterms:W3CDTF">2020-05-11T18:04:10Z</dcterms:modified>
  <cp:revision>11</cp:revision>
  <dc:subject/>
  <dc:title>Slide 1</dc:title>
</cp:coreProperties>
</file>